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3965-E022-4D1C-A02C-9FF30AD21F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DB93-23F3-4E82-A019-351464104F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CF1-D41C-4107-A333-9E594ECB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646-83A2-47B5-A04B-9624C788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5B966-35EC-49CF-981D-E36C7402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B3707-683F-46B1-99D0-F630D0B2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13744-E816-4F3B-B4C6-5D28D542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1B184-D976-4F0F-9297-DB8AC5C8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2362E-66C1-435B-9AED-C172DE3B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7BF9F-85E0-4622-98E7-B96AFFAD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53DAC-4961-4DCD-9BEE-1B427CE1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58611-5C58-479A-B5B0-F1AB6B9B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82117-754D-49B5-88B2-50E4D55B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61154-85E4-4E45-8375-894ED646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C2F-1219-4927-ADE0-01757795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F04A3-5C67-4273-B2A0-7B4D4584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4C468-A017-4BB7-88FD-734D04C1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E76D2-A877-46DD-A057-EDD8F82D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9D565-84FE-403E-A592-494A6F4B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9E759-7F29-4D72-B9E8-40B87F86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8D4F6-3B16-4D74-BED6-4908D44B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29098-EC8C-41EF-9672-460EE333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A5F02-13F2-48CA-9D32-5E4148D2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170BE-65B9-4274-B362-E71445CD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24180-0A36-45B6-8128-D270FDF4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207-8950-4C4D-9A55-67F2A662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CDBCD-4052-4747-96D3-2F892947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35756-4282-4AC6-9E3C-F9DCCB57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8FFC9-6668-461D-9C01-3AF8EBF4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7916C-4362-4F7B-8406-5AF80DBF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66058-21DF-42FB-9A29-205AD731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F0E09-24E1-42E7-ACF3-973BAB9F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25F72-DB3E-4A7C-8CE8-50F25374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81C20-9C73-4F6F-AEFF-29942F07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C79FD-CB32-409B-ADBC-B0D71695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641B5-8355-4C87-8EE7-7989FF64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08B9-6108-4FA3-8C60-6E0B2E81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1E177-1254-49A8-8333-1D4AFFEC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09578-44D2-42B8-91EB-0D793EE0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22245-162C-4755-95C8-1C7B284B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378771-52E9-4BD4-A788-8DDC8A5C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5FC2C-C218-4A7D-9CCF-362BE1D8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D40B3-C99E-40B3-A799-8C126937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026BC-55A6-4724-A0EF-CCF58354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4096E-7474-460A-B501-77F00652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C0463-ED29-4041-B50B-4FD62599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66E10-38C4-422A-9676-DA03FE2A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6DE2-7698-44D4-8636-3E84B33B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7A987-8B09-4086-94BE-EDFC9F13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60508-4CAE-482E-88FC-31F46838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88E06-A838-4A1F-BB15-7DC9E72D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EBA5EC-0EB5-4A21-960C-F93628CE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35FA6-9856-4172-AFD0-05D44584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E6AE-1A8D-4379-95F7-94392C48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A13E-C7C7-4AED-8F71-41489691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2AE7-681F-4932-AD50-6C3D3E15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19F0-E3FB-4633-ABB0-1D313148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A9E8-27E4-45E2-9BF8-B7671C97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FC3-DB1F-4707-A964-9B6F8517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37E4-2A73-4FC5-A215-37230395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0694-238F-4DC9-BD3B-7CBFC933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20A5-BDA6-4E38-B61C-A3FD8E73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1395-A038-483D-923F-08420B9E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E9B9-DA92-4486-BC2A-43301CDF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9FD56-775C-432C-AC8B-F5A0DDB3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3FA98-A2F9-4307-A6F9-4F4EE0B6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E7514-6B8A-48AB-ADAC-9CC7C545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DF1F7-A8C5-4BAD-A4B5-0561A5B7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3E895-C52B-4931-951B-C76822F9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C1D-620A-472E-A33C-15EA0B3C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734E-0047-4AFB-987A-3C4DCCD1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D0EF-E36D-4914-934B-55A4EFED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867A8-F340-4291-9E4C-1DD89D03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E9841-8C15-4A6A-9D52-7F72DABE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F7319-35C9-42F3-9CAA-E53339D8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5E41-2031-4EFB-B9DD-EB32724E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2135B-E416-484E-A2A2-73A1279C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0557D-63E4-4625-9E15-6FEF609E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0BB4E-2A36-4BF8-9494-E18B5B03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242ED-7ACF-4C15-A365-DCDB48D6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178-822D-44EE-9BC5-368C6C11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5BB06-5E1C-482B-A054-1A50DB2F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F2EEF-96D1-43DD-8E32-DA3C86C4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A628F-9AA4-4CF3-A001-8BB2DEED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108A8-155B-4783-970E-66975D65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DC59C-4E0E-4A1A-A90F-4979BB94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E9180-3F24-4BB9-9176-1903B9CC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65A1A-47AE-443D-A3D7-2C8699E3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E2EE8-3DC2-4BBF-9CFF-8B0D5FB2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6E5C3-6893-4279-9632-700D2D22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71CF5-C667-4621-BCC1-2DC22A8E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1DC8-29E2-4380-93A0-597C650C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17A0A-40C2-49DA-AE40-CA0A9319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59A44-F9A5-42A5-A536-A30F3C27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12BE9-1949-475C-B884-DE571993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DC1BC-41A3-49BA-8220-743EB693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C457E-32FF-4401-92FC-1B637479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D774F-2787-45AF-BA25-50E844AD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672F1-4FE3-478A-9190-E42F7EE5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B1D5E-016C-4D94-96DD-BF5D4A6C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BB36E-DCBE-4A5C-8B4F-3780233A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08434-FE8D-403A-8726-C49403D2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9E6-E95B-471A-A7EF-43197A3C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AD792-D8E4-4339-A6C2-3AE4265F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8220E-30F2-4510-B5D5-BF8D0725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6899A-6C28-4709-A19B-35725D7C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842CC-BB54-470F-A5ED-EECEC98F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24802-38BC-4F07-8381-49EBB574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D9A31-5B12-4B95-9746-2E635CE6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62DE2-3B6F-46C4-B431-AE141B97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B9A92-F1BD-44F2-9DD6-07288297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DF071-877A-4052-B796-CC45F9FD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EFD77-AF0B-4220-89F9-274D6713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691-49D2-403D-9073-03D29D7F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3163F-D292-4C80-8566-D01777B6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3E63B-AF3C-44A3-90B0-9B76E805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58041-C6E4-4CD8-83F3-011F17E4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15646-2DAC-46F3-B9E1-BFC7CFC8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889DC-13D0-4F1B-B316-F98BF334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CC910-42D7-4EAB-997C-32596C3E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C505E-7790-4202-9833-E4CE6B22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77000-9DE9-4F28-B5D8-5BB19655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E1857-E462-4AF7-8C0F-DD22224D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69827-03BA-40B9-A90B-26DB3253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ED3-462F-459B-AFB2-FF892A9B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AC31C-9C42-412B-81BF-3BA14A73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9183C-2F3C-4706-86BD-CE62CA8B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3333F-3B84-4AD7-A211-242C3DEC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1E99C-32B6-403E-8CEB-ED8EF5CB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46DD6-F6FA-4406-91E8-69932F4E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49CB5-D4B6-430F-9C6D-DE7B1C56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CB553-3B70-4F72-9C6F-24BB5B0B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65408-7548-4FE9-85F8-092290A6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39421-0397-4208-BDC1-7DA26DDA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B0D32-B9F3-4F89-8B03-57EBB647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874-CD86-4DC7-8D6F-49AE4C3C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0735C-2799-433F-8691-09243D06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4117B-CDC9-4010-A94C-AA433500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51C97-FA79-42B8-9287-30DE7749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9DBA5-6AB9-426C-BA44-5B0C38A3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321EB-A9D2-4E5E-9304-CBB1E08D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E1F12-2832-49B4-B85B-F2EC54AD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5AACE-FCE8-43B6-BC3A-75F05E77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92008-9C9F-4A00-A994-B733036E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51F55-19AA-4687-98B0-181500BF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C5130-1382-4F69-9C38-C4F927E4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0828-4142-4238-998D-9DF0D4822ACF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85AB-DD91-4D4F-B858-AF05B9BAA950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8DC9-73EB-4D8E-AD8F-FD10161B5D2D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02BC-35F4-4B6F-AE87-B19719FE6FF0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C60D-573D-453C-A698-A631D0F9F7D6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D27F-3F37-4098-A726-E69175D39B09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8BA6-0386-4346-809C-28828EE380AC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E88E-86F1-4CDC-97F9-BCD276021D57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D284-A0D4-4450-9D25-CF15781E9254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F9FA-D86E-4C59-8D7E-1CA980752F7E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AC28-6CCF-4986-90B9-1D775655EB78}" type="slidenum"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97FD-E841-4210-8730-585A725AA046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b9899"/>
                </a:solidFill>
                <a:latin typeface="Georgia"/>
              </a:rPr>
              <a:t>Reverse Program Calculation Supported by Code Slicing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46b86"/>
                </a:solidFill>
                <a:latin typeface="Georgia"/>
              </a:rPr>
              <a:t>paper presentation: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00000"/>
                </a:solidFill>
                <a:latin typeface="Georgia"/>
              </a:rPr>
              <a:t>Reverse Program Calculation Supported by Code Slicing, G. Villavicencio, J.N. Oliveira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646b86"/>
                </a:solidFill>
                <a:latin typeface="Georgia"/>
              </a:rPr>
              <a:t>by Constantin Taivan</a:t>
            </a:r>
            <a:r>
              <a:rPr b="1" i="1" lang="en-GB" sz="2000" spc="-1" strike="noStrike">
                <a:solidFill>
                  <a:srgbClr val="646b86"/>
                </a:solidFill>
                <a:latin typeface="Georgia"/>
              </a:rPr>
              <a:t>,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Foundation of the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17760"/>
            <a:ext cx="862812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These combinators are rich in algebraic properties, e.g. </a:t>
            </a:r>
            <a:r>
              <a:rPr b="0" i="1" lang="en-GB" sz="1600" spc="-1" strike="noStrike">
                <a:solidFill>
                  <a:srgbClr val="000000"/>
                </a:solidFill>
                <a:latin typeface="Georgia"/>
              </a:rPr>
              <a:t>X – fusion low,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depicted below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9432b"/>
                </a:solidFill>
                <a:latin typeface="Georgia"/>
              </a:rPr>
              <a:t>Objective and motivation</a:t>
            </a:r>
            <a:r>
              <a:rPr b="0" lang="en-GB" sz="1600" spc="-1" strike="noStrike">
                <a:solidFill>
                  <a:srgbClr val="a9432b"/>
                </a:solidFill>
                <a:latin typeface="Georgia"/>
              </a:rPr>
              <a:t>: construction of the original program plan using the lows above applied in a opposite direction. Code slicing has the ability for identifying the independent parallel computation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From code slicing we have: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Conjecture: Let P be a program containing n output variables, and let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Georgia"/>
              </a:rPr>
              <a:t>1,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...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be the corresponding slices. Then the semantics of P can be recovered by combining these and only  these slices, that is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The paper use the above conjecture as it is, without showing its proof. (the slicing is not formally specified on a denotational semantics framework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The code slicing equations provide the following functional expressions ([3], ex. 3.45)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-&gt;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       -&gt;                                (*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Georgia"/>
              </a:rPr>
              <a:t>To obtain (*) is needed to remove accumulation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3357720" y="1928880"/>
            <a:ext cx="2214360" cy="846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"/>
          <p:cNvPicPr/>
          <p:nvPr/>
        </p:nvPicPr>
        <p:blipFill>
          <a:blip r:embed="rId2"/>
          <a:stretch/>
        </p:blipFill>
        <p:spPr>
          <a:xfrm>
            <a:off x="1214280" y="2143080"/>
            <a:ext cx="1714680" cy="3096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5" descr=""/>
          <p:cNvPicPr/>
          <p:nvPr/>
        </p:nvPicPr>
        <p:blipFill>
          <a:blip r:embed="rId3"/>
          <a:stretch/>
        </p:blipFill>
        <p:spPr>
          <a:xfrm>
            <a:off x="5929200" y="2071800"/>
            <a:ext cx="2457720" cy="4284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" descr=""/>
          <p:cNvPicPr/>
          <p:nvPr/>
        </p:nvPicPr>
        <p:blipFill>
          <a:blip r:embed="rId4"/>
          <a:stretch/>
        </p:blipFill>
        <p:spPr>
          <a:xfrm>
            <a:off x="3643200" y="4538520"/>
            <a:ext cx="1698840" cy="2858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"/>
          <p:cNvPicPr/>
          <p:nvPr/>
        </p:nvPicPr>
        <p:blipFill>
          <a:blip r:embed="rId5"/>
          <a:stretch/>
        </p:blipFill>
        <p:spPr>
          <a:xfrm>
            <a:off x="1800360" y="5738760"/>
            <a:ext cx="1676160" cy="2858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"/>
          <p:cNvPicPr/>
          <p:nvPr/>
        </p:nvPicPr>
        <p:blipFill>
          <a:blip r:embed="rId6"/>
          <a:stretch/>
        </p:blipFill>
        <p:spPr>
          <a:xfrm>
            <a:off x="3705120" y="5738760"/>
            <a:ext cx="1643040" cy="2937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"/>
          <p:cNvPicPr/>
          <p:nvPr/>
        </p:nvPicPr>
        <p:blipFill>
          <a:blip r:embed="rId7"/>
          <a:stretch/>
        </p:blipFill>
        <p:spPr>
          <a:xfrm>
            <a:off x="5614920" y="5738760"/>
            <a:ext cx="1467000" cy="2574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"/>
          <p:cNvPicPr/>
          <p:nvPr/>
        </p:nvPicPr>
        <p:blipFill>
          <a:blip r:embed="rId8"/>
          <a:stretch/>
        </p:blipFill>
        <p:spPr>
          <a:xfrm>
            <a:off x="6291360" y="3519360"/>
            <a:ext cx="1222200" cy="2145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8" descr=""/>
          <p:cNvPicPr/>
          <p:nvPr/>
        </p:nvPicPr>
        <p:blipFill>
          <a:blip r:embed="rId9"/>
          <a:stretch/>
        </p:blipFill>
        <p:spPr>
          <a:xfrm>
            <a:off x="4896000" y="3529080"/>
            <a:ext cx="1319040" cy="2174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7" descr=""/>
          <p:cNvPicPr/>
          <p:nvPr/>
        </p:nvPicPr>
        <p:blipFill>
          <a:blip r:embed="rId10"/>
          <a:stretch/>
        </p:blipFill>
        <p:spPr>
          <a:xfrm>
            <a:off x="3081240" y="3543480"/>
            <a:ext cx="1704960" cy="2030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9" descr=""/>
          <p:cNvPicPr/>
          <p:nvPr/>
        </p:nvPicPr>
        <p:blipFill>
          <a:blip r:embed="rId11"/>
          <a:stretch/>
        </p:blipFill>
        <p:spPr>
          <a:xfrm>
            <a:off x="7591320" y="3514680"/>
            <a:ext cx="13716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Foundation of the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462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Algebra of inductive programm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The focus is on the datatype of finite lists [3,15]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For example, Haskell inductive defini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According to inductive datatype theory: f is uniquely determined by the pair (k,g)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The following equations are obtained using combinators and algebra lows as: exchange low and mutual recurs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Exchange low shows: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Picture 6" descr=""/>
          <p:cNvPicPr/>
          <p:nvPr/>
        </p:nvPicPr>
        <p:blipFill>
          <a:blip r:embed="rId1"/>
          <a:stretch/>
        </p:blipFill>
        <p:spPr>
          <a:xfrm>
            <a:off x="700200" y="2500200"/>
            <a:ext cx="2246040" cy="650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0" descr=""/>
          <p:cNvPicPr/>
          <p:nvPr/>
        </p:nvPicPr>
        <p:blipFill>
          <a:blip r:embed="rId2"/>
          <a:stretch/>
        </p:blipFill>
        <p:spPr>
          <a:xfrm>
            <a:off x="3081240" y="2671920"/>
            <a:ext cx="928800" cy="2919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"/>
          <p:cNvPicPr/>
          <p:nvPr/>
        </p:nvPicPr>
        <p:blipFill>
          <a:blip r:embed="rId3"/>
          <a:stretch/>
        </p:blipFill>
        <p:spPr>
          <a:xfrm>
            <a:off x="4167360" y="2604960"/>
            <a:ext cx="1670040" cy="4287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"/>
          <p:cNvPicPr/>
          <p:nvPr/>
        </p:nvPicPr>
        <p:blipFill>
          <a:blip r:embed="rId4"/>
          <a:stretch/>
        </p:blipFill>
        <p:spPr>
          <a:xfrm>
            <a:off x="6029280" y="2604960"/>
            <a:ext cx="2670120" cy="4287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3" descr=""/>
          <p:cNvPicPr/>
          <p:nvPr/>
        </p:nvPicPr>
        <p:blipFill>
          <a:blip r:embed="rId5"/>
          <a:stretch/>
        </p:blipFill>
        <p:spPr>
          <a:xfrm>
            <a:off x="1071720" y="4148280"/>
            <a:ext cx="2428560" cy="5810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4" descr=""/>
          <p:cNvPicPr/>
          <p:nvPr/>
        </p:nvPicPr>
        <p:blipFill>
          <a:blip r:embed="rId6"/>
          <a:stretch/>
        </p:blipFill>
        <p:spPr>
          <a:xfrm>
            <a:off x="4071960" y="4057560"/>
            <a:ext cx="1816200" cy="8575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"/>
          <p:cNvPicPr/>
          <p:nvPr/>
        </p:nvPicPr>
        <p:blipFill>
          <a:blip r:embed="rId7"/>
          <a:stretch/>
        </p:blipFill>
        <p:spPr>
          <a:xfrm>
            <a:off x="700200" y="5157720"/>
            <a:ext cx="1211040" cy="1429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6" descr=""/>
          <p:cNvPicPr/>
          <p:nvPr/>
        </p:nvPicPr>
        <p:blipFill>
          <a:blip r:embed="rId8"/>
          <a:stretch/>
        </p:blipFill>
        <p:spPr>
          <a:xfrm>
            <a:off x="2109960" y="5105520"/>
            <a:ext cx="2000160" cy="2458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" descr=""/>
          <p:cNvPicPr/>
          <p:nvPr/>
        </p:nvPicPr>
        <p:blipFill>
          <a:blip r:embed="rId9"/>
          <a:stretch/>
        </p:blipFill>
        <p:spPr>
          <a:xfrm>
            <a:off x="4319640" y="5095800"/>
            <a:ext cx="2778120" cy="262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10"/>
          <a:stretch/>
        </p:blipFill>
        <p:spPr>
          <a:xfrm>
            <a:off x="7243920" y="5086440"/>
            <a:ext cx="1423800" cy="344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8" descr=""/>
          <p:cNvPicPr/>
          <p:nvPr/>
        </p:nvPicPr>
        <p:blipFill>
          <a:blip r:embed="rId11"/>
          <a:stretch/>
        </p:blipFill>
        <p:spPr>
          <a:xfrm>
            <a:off x="695160" y="5500800"/>
            <a:ext cx="1500480" cy="7873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"/>
          <p:cNvPicPr/>
          <p:nvPr/>
        </p:nvPicPr>
        <p:blipFill>
          <a:blip r:embed="rId12"/>
          <a:stretch/>
        </p:blipFill>
        <p:spPr>
          <a:xfrm>
            <a:off x="2448000" y="5519880"/>
            <a:ext cx="1522440" cy="2556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20" descr=""/>
          <p:cNvPicPr/>
          <p:nvPr/>
        </p:nvPicPr>
        <p:blipFill>
          <a:blip r:embed="rId13"/>
          <a:stretch/>
        </p:blipFill>
        <p:spPr>
          <a:xfrm>
            <a:off x="2428920" y="5929200"/>
            <a:ext cx="1571760" cy="2667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21" descr=""/>
          <p:cNvPicPr/>
          <p:nvPr/>
        </p:nvPicPr>
        <p:blipFill>
          <a:blip r:embed="rId14"/>
          <a:stretch/>
        </p:blipFill>
        <p:spPr>
          <a:xfrm>
            <a:off x="4300560" y="5519880"/>
            <a:ext cx="1946160" cy="2854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" descr=""/>
          <p:cNvPicPr/>
          <p:nvPr/>
        </p:nvPicPr>
        <p:blipFill>
          <a:blip r:embed="rId15"/>
          <a:stretch/>
        </p:blipFill>
        <p:spPr>
          <a:xfrm>
            <a:off x="4286160" y="5929200"/>
            <a:ext cx="1071720" cy="2253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23" descr=""/>
          <p:cNvPicPr/>
          <p:nvPr/>
        </p:nvPicPr>
        <p:blipFill>
          <a:blip r:embed="rId16"/>
          <a:stretch/>
        </p:blipFill>
        <p:spPr>
          <a:xfrm>
            <a:off x="6429240" y="5572080"/>
            <a:ext cx="2310120" cy="22212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4" descr=""/>
          <p:cNvPicPr/>
          <p:nvPr/>
        </p:nvPicPr>
        <p:blipFill>
          <a:blip r:embed="rId17"/>
          <a:stretch/>
        </p:blipFill>
        <p:spPr>
          <a:xfrm>
            <a:off x="6429240" y="5857920"/>
            <a:ext cx="128592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Foundation of the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Mutual recursion low (“Fokkinga low”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8" descr=""/>
          <p:cNvPicPr/>
          <p:nvPr/>
        </p:nvPicPr>
        <p:blipFill>
          <a:blip r:embed="rId1"/>
          <a:stretch/>
        </p:blipFill>
        <p:spPr>
          <a:xfrm>
            <a:off x="2928960" y="2071800"/>
            <a:ext cx="3127320" cy="4284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1" descr=""/>
          <p:cNvPicPr/>
          <p:nvPr/>
        </p:nvPicPr>
        <p:blipFill>
          <a:blip r:embed="rId2"/>
          <a:stretch/>
        </p:blipFill>
        <p:spPr>
          <a:xfrm>
            <a:off x="2076480" y="2571840"/>
            <a:ext cx="500076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ase study: The WordCount Progra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Slic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S(nc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S(nl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652320" y="1857240"/>
            <a:ext cx="2887920" cy="4286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5" descr=""/>
          <p:cNvPicPr/>
          <p:nvPr/>
        </p:nvPicPr>
        <p:blipFill>
          <a:blip r:embed="rId2"/>
          <a:stretch/>
        </p:blipFill>
        <p:spPr>
          <a:xfrm>
            <a:off x="3786120" y="4200480"/>
            <a:ext cx="4929120" cy="18162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6" descr=""/>
          <p:cNvPicPr/>
          <p:nvPr/>
        </p:nvPicPr>
        <p:blipFill>
          <a:blip r:embed="rId3"/>
          <a:stretch/>
        </p:blipFill>
        <p:spPr>
          <a:xfrm>
            <a:off x="3786120" y="2104920"/>
            <a:ext cx="43624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ase study: The WordCount Progra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Slic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S(nw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Georgia"/>
              </a:rPr>
              <a:t>According to the conjecture, the whole program semantics is captured by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0" name="Picture 7" descr=""/>
          <p:cNvPicPr/>
          <p:nvPr/>
        </p:nvPicPr>
        <p:blipFill>
          <a:blip r:embed="rId1"/>
          <a:stretch/>
        </p:blipFill>
        <p:spPr>
          <a:xfrm>
            <a:off x="1643040" y="2143080"/>
            <a:ext cx="6018120" cy="27860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3429000" y="5429160"/>
            <a:ext cx="228924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ase study: The WordCount Progra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Removing the accumulation parameters (the non-inductive parameters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S(nc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S(nl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S(nw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1857240" y="1881360"/>
            <a:ext cx="5551560" cy="11332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"/>
          <p:cNvPicPr/>
          <p:nvPr/>
        </p:nvPicPr>
        <p:blipFill>
          <a:blip r:embed="rId2"/>
          <a:stretch/>
        </p:blipFill>
        <p:spPr>
          <a:xfrm>
            <a:off x="1357200" y="3195720"/>
            <a:ext cx="6527880" cy="14288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7" descr=""/>
          <p:cNvPicPr/>
          <p:nvPr/>
        </p:nvPicPr>
        <p:blipFill>
          <a:blip r:embed="rId3"/>
          <a:stretch/>
        </p:blipFill>
        <p:spPr>
          <a:xfrm>
            <a:off x="1428840" y="4767120"/>
            <a:ext cx="64292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ase study: The WordCount Progra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Introduction of mutual recurs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9" name="Picture 3" descr=""/>
          <p:cNvPicPr/>
          <p:nvPr/>
        </p:nvPicPr>
        <p:blipFill>
          <a:blip r:embed="rId1"/>
          <a:stretch/>
        </p:blipFill>
        <p:spPr>
          <a:xfrm>
            <a:off x="1714680" y="2000160"/>
            <a:ext cx="5913360" cy="118116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" descr=""/>
          <p:cNvPicPr/>
          <p:nvPr/>
        </p:nvPicPr>
        <p:blipFill>
          <a:blip r:embed="rId2"/>
          <a:stretch/>
        </p:blipFill>
        <p:spPr>
          <a:xfrm>
            <a:off x="1714680" y="3500280"/>
            <a:ext cx="5956200" cy="22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onclus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All the formal transformation that were made so far aimed to construct proper inductive function, e.g. paramorphisms, catamorphisms. This offers a high level of abstraction, which is the paper’s goal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The strong point of this approach are its constructive style based on powerful algebraic lows of programming. The current research went deeper than other related work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Code slicing had the roll of trimming down of complex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As a further work, the conjecture defined should be proofed in a denotational semantics sett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Generalize the reverse approach using relation algebra to any sliceable progra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b9899"/>
                </a:solidFill>
                <a:latin typeface="Georgia"/>
              </a:rPr>
              <a:t>Why do we need Reverse Program Calculation?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magine a large software application..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Content Placeholder 3" descr="SemNetRelations.jpg"/>
          <p:cNvPicPr/>
          <p:nvPr/>
        </p:nvPicPr>
        <p:blipFill>
          <a:blip r:embed="rId1"/>
          <a:stretch/>
        </p:blipFill>
        <p:spPr>
          <a:xfrm>
            <a:off x="1571760" y="2071800"/>
            <a:ext cx="61624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b9899"/>
                </a:solidFill>
                <a:latin typeface="Georgia"/>
              </a:rPr>
              <a:t>Reverse Program Calculation Supported by Code Slicing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e paper presents an approach for reverse program calculation, which is based on a semi-formal method: code slicing and a formal-method: the algebra of programm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Current reverse program calculation aims to reconstruct the formal specifications of legacy cod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Handling formal semantics of all program variables at the same time is it a complex process and for this reason, code slicing was us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Introd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research was a follow up of the Karma project, that consisted in data reverse engineering (DRE). (overall abstraction function of legacy data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Georgia"/>
              </a:rPr>
              <a:t>In the paper, it is interesting the constructive style upon the entire reverse calculation, specifically the steps of transforming semantic functions into well-known generic programming schemata: cata/paramorphism, e.g., factorial function. For supporting this, the calculations included: imploding of auxiliary variables and introduction of mutual recurs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e approach is illustrated by reversing a piece of code from C to Haskell, that is the WordCount progra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State of the ar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Georgia"/>
              </a:rPr>
              <a:t>Software reification vs. reverse specification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Georgia"/>
              </a:rPr>
              <a:t>Forward engineering</a:t>
            </a:r>
            <a:r>
              <a:rPr b="0" lang="en-GB" sz="1900" spc="-1" strike="noStrike">
                <a:solidFill>
                  <a:srgbClr val="000000"/>
                </a:solidFill>
                <a:latin typeface="Georgia"/>
              </a:rPr>
              <a:t>: moving from abstract to detailed implementations; it is a synthetic proces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Georgia"/>
              </a:rPr>
              <a:t>Reverse engineering</a:t>
            </a:r>
            <a:r>
              <a:rPr b="0" lang="en-GB" sz="1900" spc="-1" strike="noStrike">
                <a:solidFill>
                  <a:srgbClr val="000000"/>
                </a:solidFill>
                <a:latin typeface="Georgia"/>
              </a:rPr>
              <a:t>/specification is the opposite of software reification; it is a analytical process of inferring the original specification (indentifing the components and intended behaviour in order to create higher level abstraction of the system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Georgia"/>
              </a:rPr>
              <a:t>Formal/informal refinement, scaling up mathematical reasoning to real problem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eorgia"/>
              </a:rPr>
              <a:t>Increased motivation for reverse software engineering; restructuring (“spaghetti” to structured code) and re-engineering for rebuilding new system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State of the ar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Code slic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In real situations, for large piece of code produced in an “ad-hoc” way, using formal description is quite complex and counterproductive to inspec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Program slicing was introduced by M. Weiser for helping programmers in understanding foreign code and in debugg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A slice captures contain all computation on a given variabl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at is, code slicing is used in the application of denotational semantics techniques to formal reverse specific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Foundations of the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orgia"/>
              </a:rPr>
              <a:t>Denotational semantics vs. program synthesis/analysi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P – a piece of algorithmic co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[P] – input/output relation which captures the behaviour of P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Forward engineering: (left to right)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S , S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... S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= [P]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[P;Q] = [Q][P]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Reverse engineering: (right to left) . Consists in identifying sequential chunks of code such that their semantics can be inferred and abstracted upon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e approach reverse a piece of code P only in terms of its functional specificat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t was used Haskell programming notation to express the semantics of deterministic co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Foundations of the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Loop inter-combination, code fusion and slic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aking in account that a slice captures all the computations on a given variab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Due to the programmers will for efficiency, the code can be comprised of a multitude of loop inter-combinations. Code slicing proves a really useful in debugging as we may see below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Loop &lt;f,g&gt; = &lt;loop f, loop g&gt;, where &lt;&gt; denotes “parallel” execution of computations f and 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Foundation of the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6760"/>
            <a:ext cx="8504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Algebra of programming law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The obsession for efficiently may complicate the original programming plan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Georgia"/>
              </a:rPr>
              <a:t>Fusion lows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for sequential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computation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(f ∙ g) a = f (g a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Georgia"/>
              </a:rPr>
              <a:t>Mutual exclusion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lows for “parallel” computations (subsequent used for “splitting”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(i.e. implemented in Haskell (Backus [2,3])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          using </a:t>
            </a:r>
            <a:r>
              <a:rPr b="0" i="1" lang="en-GB" sz="1600" spc="-1" strike="noStrike">
                <a:solidFill>
                  <a:srgbClr val="000000"/>
                </a:solidFill>
                <a:latin typeface="Georgia"/>
              </a:rPr>
              <a:t>constructor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operator)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1071720" y="2643120"/>
            <a:ext cx="1928520" cy="12304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" descr=""/>
          <p:cNvPicPr/>
          <p:nvPr/>
        </p:nvPicPr>
        <p:blipFill>
          <a:blip r:embed="rId2"/>
          <a:stretch/>
        </p:blipFill>
        <p:spPr>
          <a:xfrm>
            <a:off x="3605040" y="2662200"/>
            <a:ext cx="2359080" cy="630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"/>
          <p:cNvPicPr/>
          <p:nvPr/>
        </p:nvPicPr>
        <p:blipFill>
          <a:blip r:embed="rId3"/>
          <a:stretch/>
        </p:blipFill>
        <p:spPr>
          <a:xfrm>
            <a:off x="3714840" y="4414680"/>
            <a:ext cx="2122560" cy="5302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" descr=""/>
          <p:cNvPicPr/>
          <p:nvPr/>
        </p:nvPicPr>
        <p:blipFill>
          <a:blip r:embed="rId4"/>
          <a:stretch/>
        </p:blipFill>
        <p:spPr>
          <a:xfrm>
            <a:off x="3714840" y="5110200"/>
            <a:ext cx="4438440" cy="4762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"/>
          <p:cNvPicPr/>
          <p:nvPr/>
        </p:nvPicPr>
        <p:blipFill>
          <a:blip r:embed="rId5"/>
          <a:stretch/>
        </p:blipFill>
        <p:spPr>
          <a:xfrm>
            <a:off x="928800" y="4381560"/>
            <a:ext cx="23414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2:23:21Z</dcterms:created>
  <dc:creator>DANIEL TAIVAN</dc:creator>
  <dc:description/>
  <dc:language>en-US</dc:language>
  <cp:lastModifiedBy>DANIEL TAIVAN</cp:lastModifiedBy>
  <dcterms:modified xsi:type="dcterms:W3CDTF">2010-10-18T07:20:51Z</dcterms:modified>
  <cp:revision>151</cp:revision>
  <dc:subject/>
  <dc:title>Introduction</dc:title>
</cp:coreProperties>
</file>